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OND_MR_M_M_ZWI86TON_Montag.wav" ContentType="audio/x-wav"/>
  <Override PartName="/ppt/media/NND_NNS_M_M_ZWL70TON_Montag.wav" ContentType="audio/x-wav"/>
  <Override PartName="/ppt/media/OMD_OS_M_M_ZWI21TON_Montag.wav" ContentType="audio/x-wav"/>
  <Override PartName="/ppt/media/FRN_OF_M_M_ZWA92TON_Montag.wav" ContentType="audio/x-wav"/>
  <Override PartName="/ppt/media/OMD_WT_M_M_ZWX25TON_Montag.wav" ContentType="audio/x-wav"/>
  <Override PartName="/ppt/media/WMD_RF_A_M_ZW0K8TON_Montag.wav" ContentType="audio/x-wav"/>
  <Override PartName="/ppt/media/WND_OF_J_W_ZW5K3TON_Montag.wav" ContentType="audio/x-wav"/>
  <Override PartName="/ppt/media/BAR_NB_A_M_ZWK63TON_Montag.wav" ContentType="audio/x-wav"/>
  <Override PartName="/ppt/media/WMD_MF_M_M_ZWI95TON_Montag.wav" ContentType="audio/x-wav"/>
  <Override PartName="/ppt/media/BAR_MB_M_M_ZWD21TON_Montag.wav" ContentType="audio/x-wav"/>
  <Override PartName="/ppt/media/image2.jpeg" ContentType="image/jpeg"/>
  <Override PartName="/ppt/media/FRN_SF_M_M_ZW567TON_Montag.wav" ContentType="audio/x-wav"/>
  <Override PartName="/ppt/media/image1.gif" ContentType="image/gif"/>
  <Override PartName="/ppt/media/ALM_HA_A_M_ZW450TON_Montag.wav" ContentType="audio/x-wav"/>
  <Override PartName="/ppt/media/image11.wmf" ContentType="image/x-wmf"/>
  <Override PartName="/ppt/media/image9.wmf" ContentType="image/x-wmf"/>
  <Override PartName="/ppt/media/image8.wmf" ContentType="image/x-wmf"/>
  <Override PartName="/ppt/media/image7.wmf" ContentType="image/x-wmf"/>
  <Override PartName="/ppt/media/image5.jpeg" ContentType="image/jpeg"/>
  <Override PartName="/ppt/media/WND_WF_J_W_ZWT84TON_Montag.wav" ContentType="audio/x-wav"/>
  <Override PartName="/ppt/media/image6.png" ContentType="image/png"/>
  <Override PartName="/ppt/media/image10.wmf" ContentType="image/x-wmf"/>
  <Override PartName="/ppt/media/image4.jpeg" ContentType="image/jpeg"/>
  <Override PartName="/ppt/media/NND_HS_M_M_ZW1I3TON_Montag.wav" ContentType="audio/x-wav"/>
  <Override PartName="/ppt/media/image3.jpeg" ContentType="image/jpeg"/>
  <Override PartName="/ppt/media/WND_NF_M_M_ZWS63TON_Montag.wav" ContentType="audio/x-wav"/>
  <Override PartName="/ppt/media/ALM_NA_M_M_ZW552TON_1_Monta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7A82FE-6540-4F9E-A340-DF97C3A407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thode: numerisch (nicht kategorial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im Gegensatz zu Sprachatla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ve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n den eingezeichneten Städten existieren, mit Ausnahme von Köln und Nürnberg keine Aufna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ativ homogene Dialektgebiete im 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Nord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33cc33"/>
                </a:solidFill>
                <a:latin typeface="Arial"/>
              </a:rPr>
              <a:t>O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de-DE" sz="1200" spc="-1" strike="noStrike">
                <a:solidFill>
                  <a:srgbClr val="0066ff"/>
                </a:solidFill>
                <a:latin typeface="Arial"/>
              </a:rPr>
              <a:t>Sü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trem heterogenes Gebiet im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We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, da dunkle Linien kurz und nicht 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s in Deutschland bis jetzt gescha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glisch ist sehr gut aufbereitet, Deutsch nicht, aber nur aus phonetischer S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chreibung von Dialek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.h. aber nicht, dass im Deutschen nichts gemacht worden 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Voraussetzungen im Engl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DB65-D3CA-4125-A1C2-B7134CD1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9F9-5ACE-442A-8A38-92D0109B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EB5-7AFD-453F-8A7E-005DD5EF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4FF-9CD8-4B3C-B987-D8ED0A1E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0E1-20B8-4C9E-814F-E1C7F6E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637-838F-4107-A880-51B52A80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868-B5A4-4D6D-B50A-51D43E09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628-AEA9-4D19-92A6-92C5D64F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EBF-C9FD-481B-B668-33B4C316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0C5-1BCF-4C6F-BC21-1644D4B6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CF67-6B65-4937-BF19-BA874873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8D7-3BE8-4E2C-AFAD-2921EB8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A5A9-AA05-4A35-AE10-7B9B1871D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prachatlas.de/" TargetMode="External"/><Relationship Id="rId2" Type="http://schemas.openxmlformats.org/officeDocument/2006/relationships/hyperlink" Target="http://www.sprachatlas.de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LM_NA_M_M_ZW552TON_1_Montag.wav"/><Relationship Id="rId3" Type="http://schemas.openxmlformats.org/officeDocument/2006/relationships/audio" Target="../media/ALM_HA_A_M_ZW450TON_Montag.wav"/><Relationship Id="rId4" Type="http://schemas.openxmlformats.org/officeDocument/2006/relationships/audio" Target="../media/BAR_MB_M_M_ZWD21TON_Montag.wav"/><Relationship Id="rId5" Type="http://schemas.openxmlformats.org/officeDocument/2006/relationships/audio" Target="../media/BAR_NB_A_M_ZWK63TON_Montag.wav"/><Relationship Id="rId6" Type="http://schemas.openxmlformats.org/officeDocument/2006/relationships/audio" Target="../media/FRN_SF_M_M_ZW567TON_Montag.wav"/><Relationship Id="rId7" Type="http://schemas.openxmlformats.org/officeDocument/2006/relationships/audio" Target="../media/FRN_OF_M_M_ZWA92TON_Montag.wav"/><Relationship Id="rId8" Type="http://schemas.openxmlformats.org/officeDocument/2006/relationships/audio" Target="../media/WMD_MF_M_M_ZWI95TON_Montag.wav"/><Relationship Id="rId9" Type="http://schemas.openxmlformats.org/officeDocument/2006/relationships/audio" Target="../media/WMD_RF_A_M_ZW0K8TON_Montag.wav"/><Relationship Id="rId10" Type="http://schemas.openxmlformats.org/officeDocument/2006/relationships/audio" Target="../media/OMD_WT_M_M_ZWX25TON_Montag.wav"/><Relationship Id="rId11" Type="http://schemas.openxmlformats.org/officeDocument/2006/relationships/audio" Target="../media/OMD_OS_M_M_ZWI21TON_Montag.wav"/><Relationship Id="rId12" Type="http://schemas.openxmlformats.org/officeDocument/2006/relationships/audio" Target="../media/OND_MR_M_M_ZWI86TON_Montag.wav"/><Relationship Id="rId13" Type="http://schemas.openxmlformats.org/officeDocument/2006/relationships/audio" Target="../media/WND_OF_J_W_ZW5K3TON_Montag.wav"/><Relationship Id="rId14" Type="http://schemas.openxmlformats.org/officeDocument/2006/relationships/audio" Target="../media/WND_WF_J_W_ZWT84TON_Montag.wav"/><Relationship Id="rId15" Type="http://schemas.openxmlformats.org/officeDocument/2006/relationships/audio" Target="../media/WND_NF_M_M_ZWS63TON_Montag.wav"/><Relationship Id="rId16" Type="http://schemas.openxmlformats.org/officeDocument/2006/relationships/audio" Target="../media/NND_NNS_M_M_ZWL70TON_Montag.wav"/><Relationship Id="rId17" Type="http://schemas.openxmlformats.org/officeDocument/2006/relationships/audio" Target="../media/NND_HS_M_M_ZW1I3TON_Montag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tudies of variation </a:t>
            </a:r>
            <a:br>
              <a:rPr sz="4400"/>
            </a:b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in German acc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licitas Kleb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datensamm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ginn des 20. Jh.: Sprachaufnahme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z.T. sehr genau transkribiert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(Teuthonista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utschrift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stitut für deutsche Sprache (IDS) &amp; Deutsches Sprach Archiv (DSAv), Man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Zwirner Korpus – über 6000 Spre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naliginierte Transliteration, aber keine Laut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044-E088-4C0B-83F2-DF6C00FAD2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Dialek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70er: (post-)sprachgeographische Auswertungsmethodologie auf der Datengrundlage von Sprachatla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beziehung quantitativer u. statistischer Ans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deckung komplexer räumlicher Ordnungsstrukturen (die in den Sprachatlanten so nicht ersichtlich s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137-1EB8-451E-B796-37F6AF4A4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J. Nerbonne &amp; Ch. Siedle (20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198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Dialektklassifikation auf der Grundlage aggregierter Ausspracheunterschiede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8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Zeitschrift für Dialektologie und Linguistik 72, S. 129 – 1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Kritik &amp; Ausgangspun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zept und Definition v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lektgebiet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sch, wenn geografische Verteilung linguistischer Merkmale inkonsistent oder auch widersprüchlich sind, d.h. Dialektmerkmale, die dies- und jenseits einer Grenze vorkommen kö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2B3-A394-4703-AE5C-18515A0D95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tative Analyse von Aussprachähnlichkeiten mitttels großer Datenmengen (186 deutsche Varietät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ücksichtigung bereits bestehender Daten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thode: numerisch (additiv) und nicht kateg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immung von Dialektgebieten unter Berücksichtigung graduellerer Dialektgrenzen (im Gegensatz zu den Grenzen traditioneller Atlan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504-E8BD-4EE3-97CD-46975F5D8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rechnung von Aussprachedistanzen zw. Dialekten mittels Wortdistanzberech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venshtein‘sche Sequenzvergleich: Abstand zw. 2 Sequenzen (hier Wörter) = Summe der Kosten aller nötigen Operationen für eine Sequenz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erationen: Ersetzen, Tilgen, Hinzufü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707-7DE5-4D89-A4C8-C79FA997FF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1568520"/>
          <a:ext cx="6059520" cy="351612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946080"/>
              </a:tblGrid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etz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mit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g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ge [t] hinz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50920" y="1557360"/>
            <a:ext cx="2089080" cy="792000"/>
          </a:xfrm>
          <a:prstGeom prst="wedgeEllipseCallout">
            <a:avLst>
              <a:gd name="adj1" fmla="val 68388"/>
              <a:gd name="adj2" fmla="val -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2089080" cy="792360"/>
          </a:xfrm>
          <a:prstGeom prst="wedgeEllipseCallout">
            <a:avLst>
              <a:gd name="adj1" fmla="val 65652"/>
              <a:gd name="adj2" fmla="val 45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bru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052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ndsmessung: audi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877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eringa (2004): akustisch ermittelte Lautabstä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A8F-D998-4818-B09C-EEDE9CA6AC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1 Wörter aus den Wenker-Sä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hebung in 186 Orten verteilt über das gesamtbundesdeutsche Gebiet (im Rahmen des Projektes „Kleiner deutscher Lautatlas – Phonetik “ (Göschel 1992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precher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BRD 1960er u. 1970er Jahre, neue Bundesländer nach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A-Transkription (IPA 1949) (2002 Nachbearbeitung X-S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6093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aterial unveröffentlicht (verwaltet vom Deutschen Sprachatlas, Mar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F43-5305-414D-8B98-BCFC5B10D3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7280" y="3013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rgeb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19520" y="1645920"/>
            <a:ext cx="43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sche Abstände zw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ll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86 Orten: je kleiner der phonetische Abstand zw. 2 Orten, desto dunkler die Verbindungsl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ografische Kohären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5760" y="125424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F83-F5CE-40EB-8B08-28641F991C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gleich aktueller Ergebnisse mit traditioneller Dialekteintei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archisch agglomerative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Jain &amp; Dubes 1988): Identifizierung von Gruppen innerhalb einer Abstandstabelle durch wiederholtes Zusammenfügen der jeweils nächsten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B0F-D9E7-4EC8-9885-0527A596FE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echermerkmale: u.a. dialektaler Hintergr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D16-725D-487A-BF6E-6FD8CF2A3B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156360" y="3902040"/>
            <a:ext cx="936720" cy="64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3D5-79E4-44E7-B1A6-CA219AFFF4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2080"/>
        </p:xfrm>
        <a:graphic>
          <a:graphicData uri="http://schemas.openxmlformats.org/drawingml/2006/table">
            <a:tbl>
              <a:tblPr/>
              <a:tblGrid>
                <a:gridCol w="1954080"/>
                <a:gridCol w="1224000"/>
                <a:gridCol w="1513080"/>
                <a:gridCol w="216684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F44-757C-4A03-BB54-96DD36E6A6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150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0" y="1458720"/>
            <a:ext cx="424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eilung der großen Dialektgebiete bestätig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önig 1994; Niebaum &amp; Macha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rather Lin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hand typischer Merkmale wie dem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Berliner Tricht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zer Dialektenkla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kenn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lektale Heterogenität im Westen 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kategoriale Dialektgr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sansatz: multidimensionale Skalierung (Torgerson 1952, Heeringa 2004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14130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02A-2B4B-44D1-B809-DD89617344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65680" y="-316080"/>
            <a:ext cx="52783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10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66ff"/>
                </a:solidFill>
                <a:latin typeface="Arial"/>
              </a:rPr>
              <a:t>Multidimensionale Skal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eeringa 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852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den = l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Osten = b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üden = grün   Westen =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43700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Varietät wird in all ihren Abständen zu allen anderen Varietäten 3-dimensional (Farbe = 3.D) repräsen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800" y="16509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EBA-522E-43D7-A627-1705A49BF1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J. Herrgen, A. Lameli, S. Rabanus &amp; J.E. Schmidt (20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4200" y="2401920"/>
            <a:ext cx="7624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alektalität als phonetische Distanz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in Verfahren zur Messung standarddivergenter Sprech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37696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7372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immung phonetisch konstituierter Dialektalität von Äußerungen als Wert für die Lautunterschiede pro Wort (D-W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netisch konstituierter Dialektalität = phonetischer Abstand regionalsprachlicher Formen zur Standardsprechw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CB9-F50F-44AA-BE5A-3313674695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Voraus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bildung bekannter Arealstrukturen von Dialektreg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weis von Dialektab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gleichbarkeit von Varietäten in unterschiedlichen Regionen (ähnliche We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fizierbarkeit von Sprachwa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A-Transkription der regionalsprachliche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ardsprachliches Bezugssystem (z.B. WDA (198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D99-8A13-45C0-96DB-06A7460222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laute der regionalen Varietät und des Bezugssystems werden aufeinander abgebil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alitätssrohwerte pro Segmentdifferenzen: Ein Unterschied in einem phonetischen Merkmal = 1 Pu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Vok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ɛ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] 1 Stufe nach oben von [a] zu [ɛ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1 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ːz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v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ːzə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0,5 Stufen nach oben/vorne von [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zu [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o,5 P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E04-7C00-4FD7-9350-C1AEF5EB6E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1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A. Lameli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71280" y="2143080"/>
            <a:ext cx="7056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Hierarchies of dialectal features in a diachronic view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implicational scaling of real ti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86900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In Britt-Louise Gunnarsson [u. a.] (Hrsg.): Language Variation in Europe. Papers from the 2nd Int. Conf. Language Variation in Europe, Uppsala, Sweden, 2003, S. 253–26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rpusanalyse von Stadtratssit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daten: Mitglieder des Mainzer Stadt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1950er &amp; 1990er Jahre; analysierte Daten: 1956, 1959, 199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n ursprünglich nicht für wissenschaftliche Zwecke ge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B: k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al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sonder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pparent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da die Sprecher der 2. Stichprobe nicht die selben Sprecher der ersten Stichprobe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0FF-B593-4DEA-B7C7-D58BDA7EB5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 paar Definitionen vorw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chliche Varietät mit begrenzter räumlicher Geltung im Gegensatz zur überdachenden Standardspra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Terminus technic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nd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e unterscheiden sich in vielen sprachliche Merkm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r bzw. mehrerer linguistischer Ebe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tik, Phonologie, Morphologie, Syntax, Lexik, Semantik, Prag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beschreibungen häufig auf allen Eb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elle Untersuchungen zwischen Dialekten hinsichtlich eines Merkmals auf einer Ebene sind se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A77-556D-48A1-8364-4E9FE22EE2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8893080" cy="474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BC1-8A59-48DC-84D4-2F3BC7432E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275-7F54-4F38-9E25-86E1974D56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05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    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Implicational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207280" cy="2336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78080" y="5354640"/>
            <a:ext cx="144360" cy="9367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5337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ndung eines dialektalen Merkmal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351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ierarchie der stabilsten Dialektmerk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81360"/>
            <a:ext cx="338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854-5542-47A6-B9D4-0B42E12C8C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4160" y="0"/>
            <a:ext cx="860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6280" y="46080"/>
            <a:ext cx="8820360" cy="69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57B-2867-43CD-BC91-178B496E1F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ysen beruhen auf auditiven Transkrip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k als Hilfsmittel, um Dialektalität festzu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akustischer Daten fehlt : insb. bei Vokalen (z.B. Formantanalysen) als instabilen und dennoch bedeutenden Dialektmerkm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 Studien z.B. zum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Labov et al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he Atlas of North 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 Clopper et al.) oder auch zu Niederländisch (Adank et al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600-4DA5-4044-88F4-DCAA0BF2C7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bung vieler regionaler Dialekte hin zu weniger supraregionalen Varietäten konnte global geze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: Vokale weiterhin Merkmale kleinräumiger Dialektarea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chron-synchroner Vgl. auch bei experimentalphonetischen Dialektuntersuchungen sinnvoll, da so paralleler Einfluss von Standardsprache und regionaler Varietät sichtbar gemacht und Entwicklungen erklär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47E-565E-4D59-806F-350FEAB5D7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nnerhalb eines Dialek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lmund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bmund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ftlich gefärbte Umgangssprach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2FF-32FC-447B-9064-B7FE42D79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rietäten und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a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autw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und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k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h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n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alekte Nied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k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vs. Ob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B53-9FA0-4EBB-A389-A439DE74F5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600" y="157320"/>
            <a:ext cx="5219640" cy="666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6200000">
            <a:off x="-127800" y="1575000"/>
            <a:ext cx="5869080" cy="3959280"/>
          </a:xfrm>
          <a:prstGeom prst="rightArrow">
            <a:avLst>
              <a:gd name="adj1" fmla="val 56380"/>
              <a:gd name="adj2" fmla="val 4716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9200" y="5919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83259"/>
              <a:gd name="adj4" fmla="val -103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65920" y="547056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61231"/>
              <a:gd name="adj4" fmla="val -84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458460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39648"/>
              <a:gd name="adj4" fmla="val -112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28464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02643"/>
              <a:gd name="adj4" fmla="val -123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thüring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963720"/>
            <a:ext cx="2519280" cy="371520"/>
          </a:xfrm>
          <a:prstGeom prst="borderCallout1">
            <a:avLst>
              <a:gd name="adj1" fmla="val 18750"/>
              <a:gd name="adj2" fmla="val -8333"/>
              <a:gd name="adj3" fmla="val 250000"/>
              <a:gd name="adj4" fmla="val -142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der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16640" y="96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256828"/>
              <a:gd name="adj4" fmla="val -153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stei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8520" y="54468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86342"/>
              <a:gd name="adj4" fmla="val -138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nied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5440" y="1465200"/>
            <a:ext cx="2662200" cy="360360"/>
          </a:xfrm>
          <a:prstGeom prst="borderCallout1">
            <a:avLst>
              <a:gd name="adj1" fmla="val 18750"/>
              <a:gd name="adj2" fmla="val -8333"/>
              <a:gd name="adj3" fmla="val 288546"/>
              <a:gd name="adj4" fmla="val -126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193032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70486"/>
              <a:gd name="adj4" fmla="val -132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05560" y="24004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83699"/>
              <a:gd name="adj4" fmla="val -8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är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9720" y="2849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74009"/>
              <a:gd name="adj4" fmla="val -8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3757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40087"/>
              <a:gd name="adj4" fmla="val -1894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in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419112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196476"/>
              <a:gd name="adj4" fmla="val -16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5035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57708"/>
              <a:gd name="adj4" fmla="val -106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üd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6386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263435"/>
              <a:gd name="adj4" fmla="val -128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äb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1560" y="63086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77532"/>
              <a:gd name="adj4" fmla="val -16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ederalem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305080"/>
            <a:ext cx="4897440" cy="2295360"/>
          </a:xfrm>
          <a:prstGeom prst="leftRightArrow">
            <a:avLst>
              <a:gd name="adj1" fmla="val 67222"/>
              <a:gd name="adj2" fmla="val 4184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Aufnahmen aus dem DSAv: Zwirner-K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835-17B5-47F8-BF12-DBAFE0FE9A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M_NA_M_M_ZW552TON_1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M_HA_A_M_ZW45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_MB_M_M_ZWD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_NB_A_M_ZWK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N_SF_M_M_ZW567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N_OF_M_M_ZWA92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MD_MF_M_M_ZWI9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MD_RF_A_M_ZW0K8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OMD_WT_M_M_ZWX2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OMD_OS_M_M_ZWI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OND_MR_M_M_ZWI86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ND_OF_J_W_ZW5K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ND_WF_J_W_ZWT84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ND_NF_M_M_ZWS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NND_NNS_M_M_ZWL7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NND_HS_M_M_ZW1I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66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1831680"/>
            <a:ext cx="4852440" cy="1741320"/>
            <a:chOff x="0" y="1831680"/>
            <a:chExt cx="4852440" cy="1741320"/>
          </a:xfrm>
        </p:grpSpPr>
        <p:sp>
          <p:nvSpPr>
            <p:cNvPr id="84" name=""/>
            <p:cNvSpPr/>
            <p:nvPr/>
          </p:nvSpPr>
          <p:spPr>
            <a:xfrm flipV="1">
              <a:off x="0" y="3269160"/>
              <a:ext cx="523080" cy="30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080" y="3269160"/>
              <a:ext cx="447120" cy="15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970560" y="2208600"/>
              <a:ext cx="3135240" cy="121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105800" y="1831680"/>
              <a:ext cx="0" cy="376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5800" y="1832040"/>
              <a:ext cx="299520" cy="302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05320" y="2058120"/>
              <a:ext cx="447120" cy="75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083960" y="3701520"/>
            <a:ext cx="2663280" cy="1369080"/>
            <a:chOff x="1083960" y="3701520"/>
            <a:chExt cx="2663280" cy="1369080"/>
          </a:xfrm>
        </p:grpSpPr>
        <p:sp>
          <p:nvSpPr>
            <p:cNvPr id="91" name=""/>
            <p:cNvSpPr/>
            <p:nvPr/>
          </p:nvSpPr>
          <p:spPr>
            <a:xfrm flipH="1" flipV="1">
              <a:off x="2810880" y="3701520"/>
              <a:ext cx="93636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083960" y="3701880"/>
              <a:ext cx="172692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0" y="3375000"/>
            <a:ext cx="118728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4000" y="3255840"/>
            <a:ext cx="718920" cy="17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741320"/>
            <a:ext cx="3097080" cy="1656000"/>
          </a:xfrm>
          <a:prstGeom prst="borderCallout1">
            <a:avLst>
              <a:gd name="adj1" fmla="val 18750"/>
              <a:gd name="adj2" fmla="val -8333"/>
              <a:gd name="adj3" fmla="val 18407"/>
              <a:gd name="adj4" fmla="val -29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derdeutsch /Hoch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5043600"/>
            <a:ext cx="3097080" cy="1584360"/>
          </a:xfrm>
          <a:prstGeom prst="borderCallout1">
            <a:avLst>
              <a:gd name="adj1" fmla="val 18750"/>
              <a:gd name="adj2" fmla="val -8333"/>
              <a:gd name="adj3" fmla="val -63425"/>
              <a:gd name="adj4" fmla="val -69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eldeutsch /Ober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3645000"/>
            <a:ext cx="3097080" cy="1152360"/>
          </a:xfrm>
          <a:prstGeom prst="borderCallout1">
            <a:avLst>
              <a:gd name="adj1" fmla="val 18750"/>
              <a:gd name="adj2" fmla="val -8333"/>
              <a:gd name="adj3" fmla="val 61708"/>
              <a:gd name="adj4" fmla="val -166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3960" y="41760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ographisches Dialekt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F64-4C25-4074-923C-0E04D73B68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Germanistische Dialektolo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9 Jh.: Georg Wenker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ragebogenerhebung (indirekte Methode) an ca. 40 000 Schulorten im Deutschen Reich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 Gewährsperson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geograph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graphisch organisierte Dokumentation lokaler Dial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 über Jahrzehnte im Zentrum germanistischer Dialekt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tierung von Isog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von Sprachatlan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4F4-C8C4-4C6E-8330-04D104C116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at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8480" y="1560600"/>
            <a:ext cx="7013520" cy="5005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956-F9D1-45A2-BE05-4883F7017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03Z</dcterms:created>
  <dc:creator> </dc:creator>
  <dc:description/>
  <dc:language>en-US</dc:language>
  <cp:lastModifiedBy> </cp:lastModifiedBy>
  <dcterms:modified xsi:type="dcterms:W3CDTF">2007-10-22T14:06:04Z</dcterms:modified>
  <cp:revision>49</cp:revision>
  <dc:subject/>
  <dc:title>Studies of variation  in German accents </dc:title>
</cp:coreProperties>
</file>